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01997"/>
        <c:axId val="65461028"/>
      </c:barChart>
      <c:catAx>
        <c:axId val="873019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61028"/>
        <c:crosses val="autoZero"/>
        <c:auto val="1"/>
        <c:lblAlgn val="ctr"/>
        <c:lblOffset val="100"/>
        <c:noMultiLvlLbl val="0"/>
      </c:catAx>
      <c:valAx>
        <c:axId val="65461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019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725-B045-42D4-9914-B2B5F313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D353-0FC1-474A-A48E-24CBE52A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9B6-AF27-415E-9B16-A51433A4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329-A07F-4E44-A80C-5CA6C1BE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CBD7-A07E-4AB4-8CE9-52D925D2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4CBD-919B-4AD3-A68F-521443B4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1BD-E10D-49B1-A631-19B35BCB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E367-EC9F-4107-825D-C57B407C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424-940C-443C-B7C4-D72718B0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61B-2138-478E-900B-243EA3B3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78C-F684-40DF-9232-8E0B285D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873-FB88-418D-8958-7CBEDDB0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8B421-2DE2-4A3B-B8C2-9370A59C27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