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79066"/>
        <c:axId val="85923993"/>
      </c:barChart>
      <c:catAx>
        <c:axId val="87879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3993"/>
        <c:crosses val="autoZero"/>
        <c:auto val="1"/>
        <c:lblAlgn val="ctr"/>
        <c:lblOffset val="100"/>
        <c:noMultiLvlLbl val="0"/>
      </c:catAx>
      <c:valAx>
        <c:axId val="8592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9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AE7-91E1-4D8F-ABC7-350FC375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993-93C1-4523-8675-AEF81C7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44E-B212-41CD-BB94-BC995694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4F9-C41A-4363-B1BB-086A9ECB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FB4-7479-4DA0-AEA2-4E5FAD2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183-A55E-4EF5-8424-EF5566E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EEC-A3B9-453D-B6C5-5E9D5E53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63B-A264-4240-9D14-619291DF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445-9D89-44FC-9224-84C7C1E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42C-1393-4467-A8FB-47BA300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454-CAFB-49E3-B779-09C498C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4BE-E70E-4701-AB80-D747677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C656D-20D4-44CA-BD75-A88548842D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