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748594"/>
        <c:axId val="35553553"/>
      </c:barChart>
      <c:catAx>
        <c:axId val="777485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553553"/>
        <c:crosses val="autoZero"/>
        <c:auto val="1"/>
        <c:lblAlgn val="ctr"/>
        <c:lblOffset val="100"/>
        <c:noMultiLvlLbl val="0"/>
      </c:catAx>
      <c:valAx>
        <c:axId val="355535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7485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84E7-443C-4365-9553-ED5D58C25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9EC2-424E-476A-AA7C-59A460EBD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3B4A-9E23-4FEE-BE95-3ABADD18E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A869-38F2-4907-A5D2-48744E74E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A10F-6902-4667-B6B5-336779D10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7F6E-7D88-430B-AC87-5E49DF15C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73E9-9FBA-4732-B9DD-49E3E14C1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06E9-5E5D-44BD-8F35-57AF52564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945C-FD5E-446D-99C8-D20DF3D2E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8B81-CF89-4C20-8BA9-AD783FA7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2112-56E5-44AC-90C4-24574E121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BA24-6C22-4F67-A627-31241200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DC50F3-481F-4433-98D5-6AE69728C38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