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37912"/>
        <c:axId val="58385261"/>
      </c:barChart>
      <c:catAx>
        <c:axId val="30637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85261"/>
        <c:crosses val="autoZero"/>
        <c:auto val="1"/>
        <c:lblAlgn val="ctr"/>
        <c:lblOffset val="100"/>
        <c:noMultiLvlLbl val="0"/>
      </c:catAx>
      <c:valAx>
        <c:axId val="58385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37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408-9A50-484D-9BA1-F1AAC14F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2F6-3E82-4A36-9986-FCB3AC1E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A4F-9FCC-471A-AA1C-BDCFB6FD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1AC-6A81-49A4-8FFD-91ABB3BC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E27-B02C-478F-962C-E846A222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3FD-2DDC-42F9-97D4-FCD0945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9EE-ADAB-4129-8F6B-56FBAD77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750-7077-44D9-AC77-93827643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88A-272A-411A-82BA-5179918B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D3C-D8E3-426B-A221-84F7021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468-3850-4842-8DA7-B876B66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307-E97F-402E-820A-81EE6D9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75A5B-65C4-4B71-A1C9-3AC2F5EFD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