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71737"/>
        <c:axId val="29468679"/>
      </c:barChart>
      <c:catAx>
        <c:axId val="12771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8679"/>
        <c:crosses val="autoZero"/>
        <c:auto val="1"/>
        <c:lblAlgn val="ctr"/>
        <c:lblOffset val="100"/>
        <c:noMultiLvlLbl val="0"/>
      </c:catAx>
      <c:valAx>
        <c:axId val="29468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1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B12-6CC0-428B-895D-D8C8E2E9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356-640D-4FDF-BA54-84EFDCCB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0CD-ADA3-4276-BE6D-E4DBCC8B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52C-95DF-4FC2-BA4A-14DC8478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AB9-1B97-448B-9120-74BE7FE6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103-1882-4B2A-94AB-C4E1462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198-62AD-4177-B6F6-B5C80C0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5B6-26C5-4930-833E-34F12C07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E41-4D8E-4A74-A844-D95F667E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5FB-F983-4781-B66E-D16C69F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331-334D-401B-9460-7847E32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AEF-7A3D-49C2-B65F-E0243C1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920F0-F25D-472E-8E67-89B3102672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