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40678"/>
        <c:axId val="4078333"/>
      </c:barChart>
      <c:catAx>
        <c:axId val="29340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333"/>
        <c:crosses val="autoZero"/>
        <c:auto val="1"/>
        <c:lblAlgn val="ctr"/>
        <c:lblOffset val="100"/>
        <c:noMultiLvlLbl val="0"/>
      </c:catAx>
      <c:valAx>
        <c:axId val="4078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40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B1F-F4B8-47F8-8C18-5EDC8424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576-4F3A-4251-AF01-6C81CE8E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2D8-3402-45F6-B055-78ED6C59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247-2D9F-4E45-B07A-DD2BE888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0E5-349B-4859-92BF-60C4ECF1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9F9-B497-4BFD-85C1-BECB376B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ABD-75EB-400B-9390-DF8D8C31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845-9AE2-42B8-A7D0-C01C9400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02C-AE69-407C-8747-5C0E5BE0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003-582C-4D65-B6B1-40355779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002-E51B-4F8B-B317-0EBDFE6A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F1E-6F05-4B77-8796-8915632E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F23DB-6EE7-4515-A032-263B1438D2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