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01248"/>
        <c:axId val="67018964"/>
      </c:barChart>
      <c:catAx>
        <c:axId val="83201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18964"/>
        <c:crosses val="autoZero"/>
        <c:auto val="1"/>
        <c:lblAlgn val="ctr"/>
        <c:lblOffset val="100"/>
        <c:noMultiLvlLbl val="0"/>
      </c:catAx>
      <c:valAx>
        <c:axId val="67018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01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834-27F3-40BF-A00A-920DDB80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295-323F-4949-93DD-6BC6424B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BF1-EFE4-443C-A06C-85924CF4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812-AE19-4146-BAA3-73762FB8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38A-22DB-4E0A-A783-3117EF2D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9EB-5EB7-47D3-9271-3DABF8FB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633-A6D4-4933-B347-56BD425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DFF-A2C9-4702-93CC-AE715DA5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595-ED59-4C83-9954-9C805A55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204-D6D8-4770-9208-219B4C8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88F-F730-45C9-96EF-E65EB52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C93-1687-4025-B774-933346AD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A7D8B-9A84-437D-8531-D3FA4DD9C3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