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84033"/>
        <c:axId val="86377139"/>
      </c:barChart>
      <c:catAx>
        <c:axId val="23784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77139"/>
        <c:crosses val="autoZero"/>
        <c:auto val="1"/>
        <c:lblAlgn val="ctr"/>
        <c:lblOffset val="100"/>
        <c:noMultiLvlLbl val="0"/>
      </c:catAx>
      <c:valAx>
        <c:axId val="86377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84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DCC-7782-4DE7-8483-D826D21D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F72-DC01-4CE8-9DCC-2FD8F444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AE8-1E30-4C61-8F24-2F37A1E5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BCD-D52E-4371-83CC-6482203D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A2C-9D06-45F5-BFD8-0E2DED73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C7E-43F4-4CB0-9D04-236C0266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830-9595-4C1C-B4BF-BCB52B89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744-C69C-4A7E-85C9-61CC86B9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3EC-8F0E-40A3-BF35-573C199A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538-3F9A-4B2A-8EEA-E549A7F4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108-7198-4370-95C8-E8B0DB76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986-A93D-40A0-BBB8-9CDD9AE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22E39-04DC-40A2-A43A-426A7C1601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