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177"/>
        <c:axId val="7372691"/>
      </c:barChart>
      <c:catAx>
        <c:axId val="403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2691"/>
        <c:crosses val="autoZero"/>
        <c:auto val="1"/>
        <c:lblAlgn val="ctr"/>
        <c:lblOffset val="100"/>
        <c:noMultiLvlLbl val="0"/>
      </c:catAx>
      <c:valAx>
        <c:axId val="7372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CED-4223-4E0B-871D-34646592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12B-0A21-4742-AF39-58D92E26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EA3-5EBC-4285-A0A4-DD3CC58D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ECF-9B7B-4092-9F6B-274A0581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3B0-78EB-4395-B333-886F4BB0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D12-FDDA-4E73-A1DB-854B0786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977-504A-4D41-BADF-B3128CE4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72D-A7CA-4E00-9CBA-9DA8F0D0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832-2E06-46A0-8CA7-8DFC1758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C47-5E64-446C-84B5-B0D9E50A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416-CF42-4EFA-B13F-E45A5B3A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E20-4F5D-4948-A30A-C08269C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A4793-85CB-4E81-9914-C475701D79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