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2518"/>
        <c:axId val="54979788"/>
      </c:barChart>
      <c:catAx>
        <c:axId val="6342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79788"/>
        <c:crosses val="autoZero"/>
        <c:auto val="1"/>
        <c:lblAlgn val="ctr"/>
        <c:lblOffset val="100"/>
        <c:noMultiLvlLbl val="0"/>
      </c:catAx>
      <c:valAx>
        <c:axId val="54979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68D-8566-4CDC-A319-DAFECB74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BBC-2C70-4B5A-B94E-BA48C5E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7BF-BA13-41E2-B610-A26DAC94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497-BEC4-4FE8-B870-FC1CC63A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D13-50FD-46AF-87D0-50BED80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99D-84D3-47AD-873F-7DFBE84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6F2-CD6D-4BEC-8BF3-DD26ED6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C95-6D6D-4BA2-8C06-EFB04EE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5B3-D802-4B6F-ADED-28B3BD5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77E-9BDC-4009-BA17-9F7059E2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0B8-4790-4BC4-94DF-996B302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5BC-7C81-49E7-A7C8-F043BB7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103C8-C560-4249-9674-83840290B7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