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60686"/>
        <c:axId val="31393779"/>
      </c:barChart>
      <c:catAx>
        <c:axId val="86260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3779"/>
        <c:crosses val="autoZero"/>
        <c:auto val="1"/>
        <c:lblAlgn val="ctr"/>
        <c:lblOffset val="100"/>
        <c:noMultiLvlLbl val="0"/>
      </c:catAx>
      <c:valAx>
        <c:axId val="31393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0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B05-DF01-454C-B97B-A749FDAB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3D7-0D66-48AA-AD42-47E620F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1EB-C69A-4AC0-A3FC-3D7AE4C4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0FA-E55D-48D9-AEBC-D626EF55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185-C9BC-401E-88F1-1101C453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DD9-2041-4823-97E6-A43DA4F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70D-77C2-403E-A1FA-17819869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BF6-7C07-40AD-9456-629FDF28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3C7-4BB5-4F91-9DA4-8EBE125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675-549F-4E5C-944E-D5EB6065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52E-D1E8-4E34-B87A-D8BCBD7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6E2-6E3C-464F-91F1-1FC6DF6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D0DED-E8DC-467B-83AA-3512C4C8E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