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075812"/>
        <c:axId val="88838081"/>
      </c:barChart>
      <c:catAx>
        <c:axId val="710758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838081"/>
        <c:crosses val="autoZero"/>
        <c:auto val="1"/>
        <c:lblAlgn val="ctr"/>
        <c:lblOffset val="100"/>
        <c:noMultiLvlLbl val="0"/>
      </c:catAx>
      <c:valAx>
        <c:axId val="888380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758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4B2F-A6D5-4690-918E-0A0D9787B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0254-DA4A-4395-A2CB-2197CA9D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EBA6-0E8C-4231-8CD7-F135FCE90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7AF9-5E5D-498E-9A0C-60E15E561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AA4A-BE57-4A0E-8FD9-F76B8822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F0F3-63B0-4455-9B13-DB918F2F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979C-FD78-40FC-95D4-4E652535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6846-6041-4089-B5BD-35C81250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4CAB-1C87-4D20-A0BE-4F4CB1D0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67F6-7FC3-4744-8386-983FF526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299E-1F3A-4694-B761-AB435C90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CC5F-D68A-4CD8-855F-3AB081A1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343FF-E9C2-40B2-97C6-99DE6BDAB6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