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56080"/>
        <c:axId val="521283"/>
      </c:barChart>
      <c:catAx>
        <c:axId val="80656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83"/>
        <c:crosses val="autoZero"/>
        <c:auto val="1"/>
        <c:lblAlgn val="ctr"/>
        <c:lblOffset val="100"/>
        <c:noMultiLvlLbl val="0"/>
      </c:catAx>
      <c:valAx>
        <c:axId val="521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56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186A-EB80-4335-B247-EA90B5CB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B2D-21F4-4F45-93BA-13BB62D6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C6BE-833A-4241-8A5B-635FCA14A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0EB8-8B00-46AA-AE32-A3609D70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275-BDBA-484A-AF7C-1CF9724D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BC1-CA35-4290-A039-F765D3F3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B74-68FA-4CF0-80B5-B169FD42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DBFB-350B-42F4-B962-A1941537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2ED-CC0D-43F8-B316-92D035EE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9D8-75FD-4C30-A9A5-1DE943A4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BAF-BC68-4C18-8CF1-D170DC1B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F39-7933-47BB-B524-1D10EF6A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8204A-C978-4502-A022-2CA6E070C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