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18750"/>
        <c:axId val="63499712"/>
      </c:barChart>
      <c:catAx>
        <c:axId val="69718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99712"/>
        <c:crosses val="autoZero"/>
        <c:auto val="1"/>
        <c:lblAlgn val="ctr"/>
        <c:lblOffset val="100"/>
        <c:noMultiLvlLbl val="0"/>
      </c:catAx>
      <c:valAx>
        <c:axId val="634997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18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1B1-CA7E-4656-A912-64BA013B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9A8-9DD6-4517-9DA3-B2C78233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2A6-2B16-41D4-9962-5BD885C0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72C-051C-4F2C-AD34-0FA561C0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138-D19C-4714-9AD3-A498DD0D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FDD-A67A-435C-89EB-0F31A1B4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26E-64FC-47F6-8A4C-5F666458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FBA-9BA3-48F4-9210-604EA1F6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D17-645C-4813-B365-84CE4D33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ACF-D2A7-4EB6-B905-16942CC2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A78-0E7D-428C-9D65-77A68DDC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3E8-1E1B-490C-816A-E902695E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51C0F-8D89-42E9-81E2-ABBDE84447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