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57319"/>
        <c:axId val="19214787"/>
      </c:barChart>
      <c:catAx>
        <c:axId val="34857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14787"/>
        <c:crosses val="autoZero"/>
        <c:auto val="1"/>
        <c:lblAlgn val="ctr"/>
        <c:lblOffset val="100"/>
        <c:noMultiLvlLbl val="0"/>
      </c:catAx>
      <c:valAx>
        <c:axId val="19214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7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95E-10EF-4123-B936-C6D520A6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00-E4EA-4507-82A6-8997176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8AC-934F-45DC-9023-D4AC9F0C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2CD-4A70-42FF-9F15-7B0F9826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E0C-60E6-4DCB-AB08-373A838D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02B-3DE3-4881-9E62-A94F481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1F0-D508-48FF-87B3-608DBEB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C6F-08EF-409F-BC53-A12520B2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80B-B170-4D1C-BDE4-E6457E6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8CE-D012-48F4-9A7A-9619AEC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03E-5788-40F9-ABBA-B48F90CA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3D0-D6A4-4797-9F23-43B31A5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C30A0-0998-44FE-B905-5815CEADB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