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16143"/>
        <c:axId val="62467830"/>
      </c:barChart>
      <c:catAx>
        <c:axId val="89116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67830"/>
        <c:crosses val="autoZero"/>
        <c:auto val="1"/>
        <c:lblAlgn val="ctr"/>
        <c:lblOffset val="100"/>
        <c:noMultiLvlLbl val="0"/>
      </c:catAx>
      <c:valAx>
        <c:axId val="62467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16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679-2938-4C77-AF83-1230AC45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E24-52F7-48C8-A93E-FC441536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272-E1BB-4C05-8D76-CA02E632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871-E64C-434A-8A2D-6559BDC8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CDD-DBD3-4BF5-9173-5E53AD86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43D-007A-4E07-8ED7-C7EA76D3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D15-BE5D-4756-8446-D0050EC3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14F-053F-4CD8-B743-CDA34151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7C3-62A0-4B0C-B2E2-C4BABCD4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A30-EE7E-4457-AE7D-4A0C1BB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894-51C9-4AA5-9324-F9FA47B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113-0C9C-46B0-802C-E02A68F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9B197-098B-4966-996D-FDE28B270E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