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65848"/>
        <c:axId val="78856509"/>
      </c:barChart>
      <c:catAx>
        <c:axId val="22465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56509"/>
        <c:crosses val="autoZero"/>
        <c:auto val="1"/>
        <c:lblAlgn val="ctr"/>
        <c:lblOffset val="100"/>
        <c:noMultiLvlLbl val="0"/>
      </c:catAx>
      <c:valAx>
        <c:axId val="78856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65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9AE-62CD-4B07-AA36-024D7F04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7EB-AFE1-45C0-A044-97023ACD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726-DFC0-4874-8CAA-6108CE6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757-EC86-42CF-93C6-E467321B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41F-7D70-4AFC-BD97-7B5A00A9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669-A439-465D-B729-27A63383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2AF-178F-45F9-8F1B-E9469E1D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84B-D630-432E-B363-F5B285EC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CFE-AD32-458B-9C75-00C28B20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080-5B2E-49F9-8C72-D4C43851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44F-1008-4345-822A-A01887AE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83E-E285-4B9E-9528-321083AC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24C63-1CCD-42DA-990E-3F0A98864E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