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41923"/>
        <c:axId val="9271722"/>
      </c:barChart>
      <c:catAx>
        <c:axId val="90841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1722"/>
        <c:crosses val="autoZero"/>
        <c:auto val="1"/>
        <c:lblAlgn val="ctr"/>
        <c:lblOffset val="100"/>
        <c:noMultiLvlLbl val="0"/>
      </c:catAx>
      <c:valAx>
        <c:axId val="9271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41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F2A-F6C7-4EFC-B4F0-94670002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2B8-F80C-4B90-9125-A3016FAB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A68-65CF-4E6B-B0F7-4F1080E9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2B1-D7FD-4ED7-9875-F9A6EC5B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CCD-E5C5-410F-AB5B-16CAA617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C07-813F-4F9E-AB85-C134B39B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1BC-AD98-45C6-A8B6-DED71626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E7A-0F7E-4A0A-8DB7-AB5F9845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59E-9176-45B1-AB15-776454F9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081-D9B4-4680-8D54-D2CFDDA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171-1207-4376-969C-1A6952B6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980-8FE1-48B3-85AA-C8B3EC17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41EF4-EF99-4B21-AFAA-57C2D68745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