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04246"/>
        <c:axId val="29722528"/>
      </c:barChart>
      <c:catAx>
        <c:axId val="44604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22528"/>
        <c:crosses val="autoZero"/>
        <c:auto val="1"/>
        <c:lblAlgn val="ctr"/>
        <c:lblOffset val="100"/>
        <c:noMultiLvlLbl val="0"/>
      </c:catAx>
      <c:valAx>
        <c:axId val="29722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04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976-2CD2-45FC-BB54-BF814140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B11-5A59-46CC-AC69-14BB1A30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64F-6D3B-4DDD-8F5D-BA46116B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6AB-051C-4008-93AC-477D64EB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941-F6FA-4C97-B35E-3474A3B6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508-DD3E-4A20-AF57-E19433A1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B0C-06D6-4A68-B5E9-79A73614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199-B951-4E4E-B41A-44F306C1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146-4346-4C4C-86D5-42559313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6F2-C482-43A8-A204-0BE67D68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6C3-2C9E-42F6-A475-156D771E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734-C6E6-4057-A493-F6CA22E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75F67-690C-4ECD-937D-496D639302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