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64609"/>
        <c:axId val="41983333"/>
      </c:barChart>
      <c:catAx>
        <c:axId val="16264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83333"/>
        <c:crosses val="autoZero"/>
        <c:auto val="1"/>
        <c:lblAlgn val="ctr"/>
        <c:lblOffset val="100"/>
        <c:noMultiLvlLbl val="0"/>
      </c:catAx>
      <c:valAx>
        <c:axId val="41983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64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25F-B175-47A9-A477-A4D61456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E02-5B6D-4AEA-B33B-0EF095FC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77D-8DF3-4928-A3A0-53B6E665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BBB-0649-48A0-8597-3E5D6ECD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D1D-B61B-4A57-B201-FBC6F386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9EE-35FE-43AC-B106-EFE582EB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006-8700-478E-8F99-6E901823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04D-E19A-4826-9B0C-057D06C8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CE1-991C-451B-8D8C-A6D32CD6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1B7-CF41-44DB-96AF-AFBD645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CA6-9E59-46BA-8EE4-39B89708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2D5-B49C-4B52-AD5C-978D8C37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CB4E3-C08F-438C-95A7-3BDF747AA9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