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935455"/>
        <c:axId val="9038614"/>
      </c:barChart>
      <c:catAx>
        <c:axId val="629354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38614"/>
        <c:crosses val="autoZero"/>
        <c:auto val="1"/>
        <c:lblAlgn val="ctr"/>
        <c:lblOffset val="100"/>
        <c:noMultiLvlLbl val="0"/>
      </c:catAx>
      <c:valAx>
        <c:axId val="90386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9354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EA64-B517-4356-80EE-ED43ABA55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103F-CDA0-4917-B093-6E5A98518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0818-18BD-4E25-902B-5E323B4DF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9F83-CD5C-47E0-9DEC-62E4CFC87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85D8-3850-4D4D-A8BF-AA5DA4B3E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6335-C040-4734-93A6-288783831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9864-D5CD-4445-AA87-10286FB90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70B7-F4F2-493A-A87C-BDA80D92B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E645-124D-46A4-B05B-D4E2D752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5006-F0DF-46CD-9158-723B1BE8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290D-BB4A-4899-8144-010D16E3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FDC5-EBBA-42ED-B493-6E1F9072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E4C328-256C-4F91-8190-32542AC98B3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