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51445"/>
        <c:axId val="78156643"/>
      </c:barChart>
      <c:catAx>
        <c:axId val="21951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56643"/>
        <c:crosses val="autoZero"/>
        <c:auto val="1"/>
        <c:lblAlgn val="ctr"/>
        <c:lblOffset val="100"/>
        <c:noMultiLvlLbl val="0"/>
      </c:catAx>
      <c:valAx>
        <c:axId val="78156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51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E77-4CF8-4BDD-ACFB-00FDAFBA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F51D-2D61-4FC9-9B26-E63C1BC5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004-551B-4519-B9CA-B2D009D7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F97-30FA-448E-BD7A-FA84E82D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1DA-85A1-42EA-AEF5-8C8ECDE6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244-902A-4EF0-9EEC-4E825BA6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874-81CE-4885-89C2-618943A5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33B-0211-4C74-9856-E008FC50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81D-E361-448C-82BF-5E3F5391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468-C580-4604-B0DD-AB739138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57D-264D-49AC-A58B-B61BAC85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C72-8F74-4DE8-8A35-06080BF8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BEF29-1DE9-4E48-AE7C-04706CBF27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