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73176"/>
        <c:axId val="4140804"/>
      </c:barChart>
      <c:catAx>
        <c:axId val="28673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804"/>
        <c:crosses val="autoZero"/>
        <c:auto val="1"/>
        <c:lblAlgn val="ctr"/>
        <c:lblOffset val="100"/>
        <c:noMultiLvlLbl val="0"/>
      </c:catAx>
      <c:valAx>
        <c:axId val="4140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73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697-95A0-4EF9-9927-4793B23D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705-5CDC-401E-B631-97CDF62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524-327D-40BF-9390-B6D279C7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522-1ED0-4C1B-8A14-93B14877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241-2962-4234-B3E0-78D8DF2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0AB-DBA9-4DD1-8E40-DB8DE01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E55-D445-4A76-9A48-8D4C4CF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F44-6EE7-4095-BA89-4C9CDBC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C74-5C18-4C99-9DFE-63422FA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11C-C3FA-45E8-9FF9-C14A4E0C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695-5200-46F0-93FC-83EB0A1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421-835A-4675-BCBE-708AC34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1F857-6CFA-49FB-9BCC-6A8DD744C5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