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72483"/>
        <c:axId val="5141907"/>
      </c:barChart>
      <c:catAx>
        <c:axId val="29872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1907"/>
        <c:crosses val="autoZero"/>
        <c:auto val="1"/>
        <c:lblAlgn val="ctr"/>
        <c:lblOffset val="100"/>
        <c:noMultiLvlLbl val="0"/>
      </c:catAx>
      <c:valAx>
        <c:axId val="51419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72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D0F1-83A6-468C-9AFE-9D8D2762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82C-F477-49D1-8C3B-03325D95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79A8-DFF3-4A22-A2E4-0705B765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6B0B-B108-4197-847F-BAC7C039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F43C-D10A-4918-A915-E401C8C2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1706-ECD7-4AE4-9CBB-F6DD8B9E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1336-06DB-4F95-81DC-D6E444A6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406-DBAB-46DB-B905-778DE473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B254-A9AD-497F-9312-269EF564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D0CF-B866-43B8-80F8-F2C5DC07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9B79-E2EC-49DA-9C36-CCCAE05A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8BA-4CF2-4131-B9B6-5D4AC36A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EDC60-30F9-4C4C-B71D-FC4A9454C6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