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43629"/>
        <c:axId val="72292703"/>
      </c:barChart>
      <c:catAx>
        <c:axId val="52743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92703"/>
        <c:crosses val="autoZero"/>
        <c:auto val="1"/>
        <c:lblAlgn val="ctr"/>
        <c:lblOffset val="100"/>
        <c:noMultiLvlLbl val="0"/>
      </c:catAx>
      <c:valAx>
        <c:axId val="72292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3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685-FEEE-45F0-93E7-B986699E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249-D43C-470A-A690-A34B7B68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B86-7A01-4764-A975-FF074338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24D-B8FD-425F-B9A9-B09C7CCF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158-EA03-48B4-B7CF-4089C4AD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A02-8C63-4331-8B9A-3107908D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528-8983-4FCA-9EBE-C17B7868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085-331E-4510-9661-9FB75F5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B8D-E560-45C7-8C63-82FC1DF8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4CA-2BBE-4AEA-A365-E218C19F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412-9F1C-4866-A2D4-54CEC48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A72-A9CF-49C2-B878-D186E4FF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710F1-11EF-4ECF-ABEE-F0858ED0E4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