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05003"/>
        <c:axId val="67115890"/>
      </c:barChart>
      <c:catAx>
        <c:axId val="57805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15890"/>
        <c:crosses val="autoZero"/>
        <c:auto val="1"/>
        <c:lblAlgn val="ctr"/>
        <c:lblOffset val="100"/>
        <c:noMultiLvlLbl val="0"/>
      </c:catAx>
      <c:valAx>
        <c:axId val="67115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05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B9B-6B78-4196-AE29-079789DB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676-99AB-41AC-A6C2-AD73B2ED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40C-DC30-4926-A2A0-DDE4C306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890-9736-409B-94A4-428846D5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1B3-C425-4C74-9F04-93069B96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BBD-AA4E-49A2-8923-90DD2046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7F2-DB03-41CF-A2AD-72C15FFA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9C0-33D8-47C4-A104-958B70A4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E32-E001-4123-938D-34758FC1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04F-A711-4763-989D-764AF00A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218-D982-4D9D-BDDC-75915089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78A-A6CE-4724-B66B-717598FC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ECEC3-0C21-4226-A8E5-ED9B6E7966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