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16452"/>
        <c:axId val="59431396"/>
      </c:barChart>
      <c:catAx>
        <c:axId val="32016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31396"/>
        <c:crosses val="autoZero"/>
        <c:auto val="1"/>
        <c:lblAlgn val="ctr"/>
        <c:lblOffset val="100"/>
        <c:noMultiLvlLbl val="0"/>
      </c:catAx>
      <c:valAx>
        <c:axId val="5943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6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DC7-AE4D-468D-872E-666D02FB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0EC-667A-4D31-8CE6-C173CB6E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AB1-4E17-470F-83D9-A1E72500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B37-1E6E-4906-BCE4-821A8FD1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3F0-4690-403A-A1C5-6507AA7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7F6-692B-4A6F-9836-B7FC08E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E14-5FD2-4CDD-A91B-A2070CE3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251-5014-4334-A8F3-773615F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1DB-549F-46D9-8262-8BB765E6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84F-4010-4071-80C8-9B8E28F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884-FF6B-40FE-9B21-8759221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BB2-6DD8-4660-87FD-EA22F85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57123-FA7F-4363-8E98-0AF105F8DB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