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0015"/>
        <c:axId val="17787755"/>
      </c:barChart>
      <c:catAx>
        <c:axId val="67820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87755"/>
        <c:crosses val="autoZero"/>
        <c:auto val="1"/>
        <c:lblAlgn val="ctr"/>
        <c:lblOffset val="100"/>
        <c:noMultiLvlLbl val="0"/>
      </c:catAx>
      <c:valAx>
        <c:axId val="17787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0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170-DD62-4005-BF0B-6B0BEB51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CCC-8235-405C-AF94-A3A4A99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F4E-C44C-4044-8089-6D29CB6B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965-E74D-4C82-A7C0-00F5D803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839-FCE5-47E9-8421-6AD1042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29B-F241-47E6-85C7-374E7A6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476-0CEC-4193-A907-000C283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E49-0D46-4F6E-9346-E603CD0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BB6-A359-4744-8536-4EE0203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888-A35E-498B-BAA5-FC8B4C0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9A2-9A58-4828-8DBF-4F309220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47C-4B59-47B0-B31A-399393A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22D00-EF7C-45A8-9EBA-30BB0B1D5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