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67753"/>
        <c:axId val="31303326"/>
      </c:barChart>
      <c:catAx>
        <c:axId val="65467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03326"/>
        <c:crosses val="autoZero"/>
        <c:auto val="1"/>
        <c:lblAlgn val="ctr"/>
        <c:lblOffset val="100"/>
        <c:noMultiLvlLbl val="0"/>
      </c:catAx>
      <c:valAx>
        <c:axId val="31303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67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6F9-8E3B-4CF9-80D3-A823077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855-D9D8-4AF3-BC5E-9949D61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809-4754-435B-A559-4BC0DA8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DBF-A4CD-4A3D-942C-079E68A3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C89-8483-4E82-9A52-CB0EA5B9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758-EB17-4AC2-948D-E2D828A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5DB-3F91-4982-9B01-96D1565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182-5FB1-4EDC-B96F-4E8DA5B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956-D7F3-48B1-88F4-08C6D753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FFB-5B41-4C47-BEA3-1083163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32E-2BCB-43E1-BA71-730A5590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F96-09AF-4E37-80DB-32154B1B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7CA8A-38EA-4758-BD74-11B9541E6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