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10117"/>
        <c:axId val="54277568"/>
      </c:barChart>
      <c:catAx>
        <c:axId val="78710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77568"/>
        <c:crosses val="autoZero"/>
        <c:auto val="1"/>
        <c:lblAlgn val="ctr"/>
        <c:lblOffset val="100"/>
        <c:noMultiLvlLbl val="0"/>
      </c:catAx>
      <c:valAx>
        <c:axId val="54277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10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904-01E6-4F18-BBDD-3AF9A0C2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E6A-5EFB-44E5-BFB3-309CFDB9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436-A5F1-42EE-94F9-F72C3D7F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2AC-9327-445A-B184-5797BFA2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365-6F03-4396-B84E-8332B4F1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5DF-C0BB-4884-8876-4A8A27D4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3D9-2468-444D-B6EC-8FB66E03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7A3-E6C9-483C-BE1F-AB7D5338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40A-28B0-425C-86F8-29E4A38F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163-669E-4FA5-A0ED-98AD44C9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991-7945-410D-8464-E8AC9B40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DBF-942A-4C31-BDF2-4A8146BF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411B6-CA33-4E85-8F80-FCA77CBE3A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