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88586"/>
        <c:axId val="2573213"/>
      </c:barChart>
      <c:catAx>
        <c:axId val="32488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3213"/>
        <c:crosses val="autoZero"/>
        <c:auto val="1"/>
        <c:lblAlgn val="ctr"/>
        <c:lblOffset val="100"/>
        <c:noMultiLvlLbl val="0"/>
      </c:catAx>
      <c:valAx>
        <c:axId val="2573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8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135-2F37-4618-8550-821AF9FC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3AA-5A8A-48C7-9DE6-08761CCC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7AE-CB90-401D-BCB3-51922FB1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434-8178-4166-88B0-1F319B3C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FFB-0CA6-4BC5-B576-3E32C29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C8E-3122-4EDD-9063-812E51C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779-A044-4EB0-8464-684DB0F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C94-4684-41BA-889B-965F804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A8B-7BDB-4FC2-8EFC-2D44C049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500-13E3-461C-B809-281BCE9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6BB-0DF8-47A2-887E-A3068E8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D80-D18C-4868-8B9B-5F7A89F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DE969-DBE4-41CA-9F83-F5CD05AF54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