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66108"/>
        <c:axId val="3536840"/>
      </c:barChart>
      <c:catAx>
        <c:axId val="42166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6840"/>
        <c:crosses val="autoZero"/>
        <c:auto val="1"/>
        <c:lblAlgn val="ctr"/>
        <c:lblOffset val="100"/>
        <c:noMultiLvlLbl val="0"/>
      </c:catAx>
      <c:valAx>
        <c:axId val="3536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66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ABE-65C4-46EC-835C-2D7B9056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CD8-8B8F-402D-979D-1E28D327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5AA-DDF8-4F3B-A508-836E6251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951-54CD-41A1-99A9-B048BCDF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99F-A49A-45B9-9689-28C8422F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335-5D8D-450A-B6C4-F4C12EED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A1F-8839-47E1-9FB3-BC875B4C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662-B583-4E35-9C95-23EDFA0D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0A2-4986-4401-AD0C-2711FBC5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D13-E5B8-4BD7-9DD2-C416497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522-EFD7-47D6-8CCF-0434086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684-952F-4DD9-9622-27ABF225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E0966-2674-4ECF-8D6C-A52D884A44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