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74512"/>
        <c:axId val="21857293"/>
      </c:barChart>
      <c:catAx>
        <c:axId val="42974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57293"/>
        <c:crosses val="autoZero"/>
        <c:auto val="1"/>
        <c:lblAlgn val="ctr"/>
        <c:lblOffset val="100"/>
        <c:noMultiLvlLbl val="0"/>
      </c:catAx>
      <c:valAx>
        <c:axId val="21857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74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B98-0A10-4ED0-9B94-36A83D43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030-2BCE-4E81-9854-BE977E8E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081-58E1-4F58-AEB6-0967C480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13A-95B5-4EB1-BF69-25160B91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EB3-16BD-4072-B479-A09C017F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BDB-6F0E-45DE-A262-DE9746EB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7F6-CD4E-40EA-A4FA-CF10DF0D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743-361D-4CA6-B07B-84F0591E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BC8-707A-4326-ABD3-F770E164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6F6-21A0-4A2B-BBE7-36F42AA5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91F-924C-4396-9D03-0303A54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D98-4EF9-48B5-A60D-8D73F7D5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0CDD5-A711-4415-9D0D-FA6C443A8D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