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22927"/>
        <c:axId val="11454357"/>
      </c:barChart>
      <c:catAx>
        <c:axId val="41322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54357"/>
        <c:crosses val="autoZero"/>
        <c:auto val="1"/>
        <c:lblAlgn val="ctr"/>
        <c:lblOffset val="100"/>
        <c:noMultiLvlLbl val="0"/>
      </c:catAx>
      <c:valAx>
        <c:axId val="11454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22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F36-946D-4A04-8CBB-D1E858CD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749-1A76-4CD2-B13F-A9D20BE3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5D8-F39D-4670-9388-5AB7523F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00A-7C39-4C6C-970A-989064B1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EE1-EB1A-42BA-A103-057DFF0E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D23-F7FF-49B3-842A-566C8A24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95E-1174-46FE-A4FE-7B5C03E5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7DE-2DED-44FA-A757-92AD8692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16FD-70AE-42CB-B07D-30B7D5BB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6F5-D480-4345-AB74-6D8455BB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9FE-9F26-4BCE-B521-1697476E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2F70-6499-4CB0-A030-4DDDD1AC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32AED-D037-41CE-9A57-2A572F1865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