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60188"/>
        <c:axId val="11614969"/>
      </c:barChart>
      <c:catAx>
        <c:axId val="53660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14969"/>
        <c:crosses val="autoZero"/>
        <c:auto val="1"/>
        <c:lblAlgn val="ctr"/>
        <c:lblOffset val="100"/>
        <c:noMultiLvlLbl val="0"/>
      </c:catAx>
      <c:valAx>
        <c:axId val="11614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60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187-CE5F-424C-A0B5-855E7242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E9D-B210-4D3E-BDC9-F3EDFFA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605-891C-49EA-A749-7052DEB9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7B3-855B-480C-9BDD-03C09F2F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47C-6C65-4F92-BF2E-9B41729F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2A8-A248-4F5F-976B-205AAE4E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CE8-22BC-435F-9D29-DB9EAA0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2ED-C01A-44C2-8B66-EF0C39E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F33-888D-477D-8B32-CCA47D3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172-1039-41F3-88BB-F34931B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B1B-1CDD-4A28-9934-7A31097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762-BC99-44B6-8E5C-4A7A6C7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4AE87-8C21-4D24-80F1-55AB693AD1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