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61486"/>
        <c:axId val="28827629"/>
      </c:barChart>
      <c:catAx>
        <c:axId val="70261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27629"/>
        <c:crosses val="autoZero"/>
        <c:auto val="1"/>
        <c:lblAlgn val="ctr"/>
        <c:lblOffset val="100"/>
        <c:noMultiLvlLbl val="0"/>
      </c:catAx>
      <c:valAx>
        <c:axId val="28827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61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356-B2B0-4617-9791-8F00E426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A33-5214-450D-97EC-F1B858A7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3C6-3B1C-4BED-B6FC-B8B7C619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A81-EE5D-449F-B0A8-5B4C8EEA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FAB-D6A2-45FB-A91B-1332FFE6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6D7-7272-4886-9285-E82F39BD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3CB-FFB9-4C78-B048-11410141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532-C069-4F6B-AB29-AEFE6A3F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B1C-5795-4A04-AF30-09DF2133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602-FD7E-488F-A3F1-776B93CA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3EC1-2D30-4E00-A131-E301898F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E7F-CE29-4006-B178-10E65DFC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EA548-B35C-40A0-8011-71237B8B07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